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12428-DFB0-4E8D-897C-97E91BCDC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14040" y="434880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0BC0C-02B7-47AA-A5FA-23E2D9216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79720" y="243828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040" y="43488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79720" y="43488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9B8A2-9B14-4A58-B77C-80B6CBC0A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64640" y="243828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5600" y="243828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14040" y="43488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64640" y="43488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5600" y="43488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E87DE-9D77-4331-B2FE-3EC45610B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0293C-1EEB-4663-BD16-F492992B0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914040" y="243828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2B96A-4483-44E3-9918-55F99F92C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8E35F-3097-47E2-AB8D-A74540660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79720" y="243828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4FFA9-C183-45C0-90E1-982220643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AFA17-F539-4B09-80C9-BF32A3EB6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C72F6-B742-44E7-8B77-ED630C6DA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79720" y="243828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914040" y="43488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E2921-09BC-484B-B1EE-A1F71274B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14040" y="243828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B9265-84E1-4C0D-B616-8E051547A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79720" y="243828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79720" y="43488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1703B-6236-4312-A382-1578E1418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79720" y="243828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14040" y="434880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01976-0987-4807-8CBF-92C1C5BDF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914040" y="434880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511AC-CB79-4401-AEB6-40F1AA0BB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79720" y="243828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040" y="43488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79720" y="43488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DD72D-4FBB-48C1-A1BC-A284F9299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464640" y="243828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15600" y="243828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914040" y="43488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464640" y="43488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15600" y="43488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AB51B-DCC4-4FFC-81B1-86FF245D9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77007-E887-43E7-B248-A3E127E6A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79720" y="243828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C726E-7AE4-4918-AD67-B32F302B3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A1A40-D46F-416B-9386-B2218D600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514B4-012B-4B56-BEE0-022794154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79720" y="243828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14040" y="43488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2DA90-50B9-4C93-988C-B79E91944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79720" y="243828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79720" y="43488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3FAA3-AE99-45A0-81CE-2C5D88BD5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79720" y="243828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14040" y="434880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623B9-FE76-4485-A8CF-AD0DACCC0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Curlz MT"/>
              </a:rPr>
              <a:t>Click to edit the title text format</a:t>
            </a: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14040" y="243828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13200" indent="-313200">
              <a:spcBef>
                <a:spcPts val="799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lvl="1" marL="680760" indent="-276840">
              <a:spcBef>
                <a:spcPts val="799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lvl="2" marL="1039680" indent="-268200">
              <a:spcBef>
                <a:spcPts val="799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lvl="3" marL="1352880" indent="-223200">
              <a:spcBef>
                <a:spcPts val="799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lvl="4" marL="1665360" indent="-220680">
              <a:spcBef>
                <a:spcPts val="799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lvl="5" marL="1665360" indent="-220680">
              <a:spcBef>
                <a:spcPts val="799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lvl="6" marL="1665360" indent="-220680">
              <a:spcBef>
                <a:spcPts val="799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Verdana"/>
                <a:ea typeface="MS P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MS P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Verdana"/>
                <a:ea typeface="MS P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MS P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Verdana"/>
                <a:ea typeface="MS P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59FBB-3C70-453B-9B07-EAA5792F6D2B}" type="slidenum">
              <a:rPr b="0" lang="en-US" sz="1400" spc="-1" strike="noStrike">
                <a:solidFill>
                  <a:srgbClr val="ffffff"/>
                </a:solidFill>
                <a:latin typeface="Verdana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4495680"/>
            <a:ext cx="7772400" cy="152424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000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Curlz MT"/>
              </a:rPr>
              <a:t>Click to edit the title text format</a:t>
            </a:r>
            <a:endParaRPr b="0" lang="en-US" sz="60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Verdana"/>
                <a:ea typeface="MS P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MS P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Verdana"/>
                <a:ea typeface="MS P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MS P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Verdana"/>
                <a:ea typeface="MS P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40DDA-0C38-4F89-AAA1-9C6E3142EDF3}" type="slidenum">
              <a:rPr b="0" lang="en-US" sz="1400" spc="-1" strike="noStrike">
                <a:solidFill>
                  <a:srgbClr val="ffffff"/>
                </a:solidFill>
                <a:latin typeface="Verdana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urlz MT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Curlz MT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00"/>
              </a:solidFill>
              <a:latin typeface="Verdana"/>
            </a:endParaRPr>
          </a:p>
          <a:p>
            <a:pPr lvl="2" marL="914400" indent="61920" algn="ctr">
              <a:spcBef>
                <a:spcPts val="601"/>
              </a:spcBef>
              <a:buClr>
                <a:srgbClr val="ffff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00"/>
              </a:solidFill>
              <a:latin typeface="Verdana"/>
            </a:endParaRPr>
          </a:p>
          <a:p>
            <a:pPr lvl="3" marL="1371600" indent="58680" algn="ctr">
              <a:spcBef>
                <a:spcPts val="499"/>
              </a:spcBef>
              <a:buClr>
                <a:srgbClr val="ffff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ff00"/>
              </a:buClr>
              <a:buFont typeface="Wingdings" charset="2"/>
              <a:buChar char="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Curlz MT"/>
              </a:rPr>
              <a:t>Warm Up</a:t>
            </a: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6720" indent="-396720">
              <a:spcBef>
                <a:spcPts val="799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How are real &amp; nominal GDP different?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marL="3967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marL="396720" indent="-396720">
              <a:spcBef>
                <a:spcPts val="799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What equation connects them?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AFBEF-5E40-4E52-93F3-A591997F5B8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Curlz MT"/>
              </a:rPr>
              <a:t>Wha’t it used for?</a:t>
            </a: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68640" indent="-368640">
              <a:spcBef>
                <a:spcPts val="799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It’s great to know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marL="368640" indent="-368640">
              <a:spcBef>
                <a:spcPts val="799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Serve a real purpose?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marL="368640" indent="-368640">
              <a:spcBef>
                <a:spcPts val="799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Who uses it?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marL="368640" indent="-368640">
              <a:spcBef>
                <a:spcPts val="799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Best tool gov’t has for checking burden on “average” consumer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marL="368640" indent="-368640">
              <a:spcBef>
                <a:spcPts val="799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Often times COLA based on it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C34DD-CFDB-4251-ABEE-4944B2890ED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Curlz MT"/>
              </a:rPr>
              <a:t>Now &amp; Later</a:t>
            </a: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6720" indent="-396720">
              <a:spcBef>
                <a:spcPts val="799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Inflation affects your money now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marL="396720" indent="-396720">
              <a:spcBef>
                <a:spcPts val="799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Also reduces value later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marL="396720" indent="-396720">
              <a:spcBef>
                <a:spcPts val="799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$5 used to buy a lot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marL="396720" indent="-396720">
              <a:spcBef>
                <a:spcPts val="799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$.49 cheeseburgers at McDees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marL="396720" indent="-396720">
              <a:spcBef>
                <a:spcPts val="799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$.39 tacos on Sunday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70A8F-9EA6-437B-9F5A-4F6FEB89968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Curlz MT"/>
              </a:rPr>
              <a:t>Banks aren’t losers</a:t>
            </a: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64680" indent="-3646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Banks must consider this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marL="364680" indent="-3646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Money loaned out is worth less when repaid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marL="364680" indent="-3646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Add expected inflation onto price charged for loan (interest rate)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marL="364680" indent="-3646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The rate you pay now (nominal) = expected inflation +real IR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5ADCC-9F85-4C68-B8D5-C97F1A11545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Curlz MT"/>
              </a:rPr>
              <a:t>Can’t expect the unexpected</a:t>
            </a: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6720" indent="-396720">
              <a:spcBef>
                <a:spcPts val="799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Banks consider “EXPECTED INFLATION”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marL="396720" indent="-396720">
              <a:spcBef>
                <a:spcPts val="799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What if it’s not expected?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marL="396720" indent="-396720">
              <a:spcBef>
                <a:spcPts val="799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Who suffers?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marL="3967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marL="396720" indent="-396720">
              <a:spcBef>
                <a:spcPts val="799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Who benefits?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2E1C8-05E6-4E81-B3E8-09D05C9EA6F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Curlz MT"/>
              </a:rPr>
              <a:t>Use in moderation</a:t>
            </a: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80520" indent="-38052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So far it sounds like inflation is all bad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marL="380520" indent="-38052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No really, but can be when not controlled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marL="380520" indent="-38052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Moderate is ok (ideally 2-3%)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marL="380520" indent="-38052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When we have time to adjust it’s all good (gas of late)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BD8BD-43D1-4D05-A35F-7982353E279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Curlz MT"/>
              </a:rPr>
              <a:t>Summary</a:t>
            </a: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56760" indent="-35676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Prices go up…it’s inevitable</a:t>
            </a:r>
            <a:endParaRPr b="0" lang="en-US" sz="2800" spc="-1" strike="noStrike">
              <a:solidFill>
                <a:srgbClr val="ffff00"/>
              </a:solidFill>
              <a:latin typeface="Verdana"/>
            </a:endParaRPr>
          </a:p>
          <a:p>
            <a:pPr marL="356760" indent="-35676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Price indices used to estimate burden to consumers</a:t>
            </a:r>
            <a:endParaRPr b="0" lang="en-US" sz="2800" spc="-1" strike="noStrike">
              <a:solidFill>
                <a:srgbClr val="ffff00"/>
              </a:solidFill>
              <a:latin typeface="Verdana"/>
            </a:endParaRPr>
          </a:p>
          <a:p>
            <a:pPr marL="356760" indent="-35676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CPI most popular (relevant)</a:t>
            </a:r>
            <a:endParaRPr b="0" lang="en-US" sz="2800" spc="-1" strike="noStrike">
              <a:solidFill>
                <a:srgbClr val="ffff00"/>
              </a:solidFill>
              <a:latin typeface="Verdana"/>
            </a:endParaRPr>
          </a:p>
          <a:p>
            <a:pPr marL="356760" indent="-35676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Directly affects interest rates (nominal = real + inflation)</a:t>
            </a:r>
            <a:endParaRPr b="0" lang="en-US" sz="2800" spc="-1" strike="noStrike">
              <a:solidFill>
                <a:srgbClr val="ffff00"/>
              </a:solidFill>
              <a:latin typeface="Verdana"/>
            </a:endParaRPr>
          </a:p>
          <a:p>
            <a:pPr marL="356760" indent="-35676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HW:  </a:t>
            </a:r>
            <a:endParaRPr b="0" lang="en-US" sz="2800" spc="-1" strike="noStrike">
              <a:solidFill>
                <a:srgbClr val="ffff00"/>
              </a:solidFill>
              <a:latin typeface="Verdana"/>
            </a:endParaRPr>
          </a:p>
          <a:p>
            <a:pPr lvl="1" marL="775440" indent="-31536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Questions for Review (p 532):  1, 4</a:t>
            </a:r>
            <a:endParaRPr b="0" lang="en-US" sz="2400" spc="-1" strike="noStrike">
              <a:solidFill>
                <a:srgbClr val="ffff00"/>
              </a:solidFill>
              <a:latin typeface="Verdana"/>
            </a:endParaRPr>
          </a:p>
          <a:p>
            <a:pPr lvl="1" marL="775440" indent="-31536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Problems &amp; Aps (p 532): 2, 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3</a:t>
            </a: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, 5, 6, 11</a:t>
            </a:r>
            <a:endParaRPr b="0" lang="en-US" sz="24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1BACF-6A73-48E2-98FC-59FF5890623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8080" y="4495680"/>
            <a:ext cx="7772400" cy="152424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000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Curlz MT"/>
              </a:rPr>
              <a:t>Chapter 24:  Measuring the Cost of Living</a:t>
            </a:r>
            <a:endParaRPr b="0" lang="en-US" sz="60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3352680" y="990360"/>
            <a:ext cx="2362320" cy="2438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urlz MT"/>
              </a:rPr>
              <a:t>It sure adds up quickly!</a:t>
            </a:r>
            <a:endParaRPr b="0" lang="en-US" sz="32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8A2A6-3AFB-4F37-AB78-08417D35072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Curlz MT"/>
              </a:rPr>
              <a:t>Overview</a:t>
            </a: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6720" indent="-396720">
              <a:spcBef>
                <a:spcPts val="700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CPI</a:t>
            </a:r>
            <a:endParaRPr b="0" lang="en-US" sz="2800" spc="-1" strike="noStrike">
              <a:solidFill>
                <a:srgbClr val="ffff00"/>
              </a:solidFill>
              <a:latin typeface="Verdana"/>
            </a:endParaRPr>
          </a:p>
          <a:p>
            <a:pPr marL="396720" indent="-396720">
              <a:spcBef>
                <a:spcPts val="700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COLAS</a:t>
            </a:r>
            <a:endParaRPr b="0" lang="en-US" sz="2800" spc="-1" strike="noStrike">
              <a:solidFill>
                <a:srgbClr val="ffff00"/>
              </a:solidFill>
              <a:latin typeface="Verdana"/>
            </a:endParaRPr>
          </a:p>
          <a:p>
            <a:pPr marL="396720" indent="-396720">
              <a:spcBef>
                <a:spcPts val="700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Real vs nominal interest rates</a:t>
            </a:r>
            <a:endParaRPr b="0" lang="en-US" sz="2800" spc="-1" strike="noStrike">
              <a:solidFill>
                <a:srgbClr val="ffff00"/>
              </a:solidFill>
              <a:latin typeface="Verdana"/>
            </a:endParaRPr>
          </a:p>
          <a:p>
            <a:pPr marL="396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Verdana"/>
            </a:endParaRPr>
          </a:p>
          <a:p>
            <a:pPr marL="396720" indent="-396720">
              <a:spcBef>
                <a:spcPts val="700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Vocab is the same list</a:t>
            </a:r>
            <a:endParaRPr b="0" lang="en-US" sz="2800" spc="-1" strike="noStrike">
              <a:solidFill>
                <a:srgbClr val="ffff00"/>
              </a:solidFill>
              <a:latin typeface="Verdana"/>
            </a:endParaRPr>
          </a:p>
          <a:p>
            <a:pPr marL="396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Verdana"/>
            </a:endParaRPr>
          </a:p>
          <a:p>
            <a:pPr marL="396720" indent="-396720">
              <a:spcBef>
                <a:spcPts val="700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15 slides</a:t>
            </a:r>
            <a:endParaRPr b="0" lang="en-US" sz="2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D905D-74D5-4AFF-A87C-6AFFF40E963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Curlz MT"/>
              </a:rPr>
              <a:t>Backwards first</a:t>
            </a: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76560" indent="-37656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Last chapter we introduced GDP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marL="376560" indent="-37656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Real vs nominal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marL="376560" indent="-37656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GNP, NDP, PI, NI, DI, NEW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marL="376560" indent="-37656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Income &amp; expenditure approach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marL="3765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marL="376560" indent="-37656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It’s great to know the total, but what does it cost us?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D4A65-AC75-4841-99FA-DA982CE7492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Curlz MT"/>
              </a:rPr>
              <a:t>Rising Sun</a:t>
            </a: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80010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48840" indent="-34884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Prices increasing is almost as consistent as the sun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marL="348840" indent="-34884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Some more than others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marL="348840" indent="-34884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Sometimes it’s DEFLATION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marL="348840" indent="-34884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DISINFLATION &amp; HYPERINFLATION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marL="348840" indent="-34884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Also galloping &amp; moderate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marL="348840" indent="-34884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Bottom line is that prices increase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D6E4E-0E0C-4457-BB2B-61769A802E9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Curlz MT"/>
              </a:rPr>
              <a:t>Making sense of cents</a:t>
            </a: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6720" indent="-396720">
              <a:spcBef>
                <a:spcPts val="799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It’s a mess to keep straight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marL="396720" indent="-396720">
              <a:spcBef>
                <a:spcPts val="799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Most rise, a few fall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marL="396720" indent="-396720">
              <a:spcBef>
                <a:spcPts val="799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What’s it mean overall?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marL="396720" indent="-396720">
              <a:spcBef>
                <a:spcPts val="799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Analyze everything together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23D79-B357-4834-954F-0142039F8AF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Curlz MT"/>
              </a:rPr>
              <a:t>CPI</a:t>
            </a: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64680" indent="-364680">
              <a:spcBef>
                <a:spcPts val="700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Take a big “market basket”</a:t>
            </a:r>
            <a:endParaRPr b="0" lang="en-US" sz="2800" spc="-1" strike="noStrike">
              <a:solidFill>
                <a:srgbClr val="ffff00"/>
              </a:solidFill>
              <a:latin typeface="Verdana"/>
            </a:endParaRPr>
          </a:p>
          <a:p>
            <a:pPr marL="364680" indent="-364680">
              <a:spcBef>
                <a:spcPts val="700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Add up the cost</a:t>
            </a:r>
            <a:endParaRPr b="0" lang="en-US" sz="2800" spc="-1" strike="noStrike">
              <a:solidFill>
                <a:srgbClr val="ffff00"/>
              </a:solidFill>
              <a:latin typeface="Verdana"/>
            </a:endParaRPr>
          </a:p>
          <a:p>
            <a:pPr marL="364680" indent="-364680">
              <a:spcBef>
                <a:spcPts val="700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Do it every month forever</a:t>
            </a:r>
            <a:endParaRPr b="0" lang="en-US" sz="2800" spc="-1" strike="noStrike">
              <a:solidFill>
                <a:srgbClr val="ffff00"/>
              </a:solidFill>
              <a:latin typeface="Verdana"/>
            </a:endParaRPr>
          </a:p>
          <a:p>
            <a:pPr marL="364680" indent="-364680">
              <a:spcBef>
                <a:spcPts val="700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Use tallies to evaluate inflation</a:t>
            </a:r>
            <a:endParaRPr b="0" lang="en-US" sz="2800" spc="-1" strike="noStrike">
              <a:solidFill>
                <a:srgbClr val="ffff00"/>
              </a:solidFill>
              <a:latin typeface="Verdana"/>
            </a:endParaRPr>
          </a:p>
          <a:p>
            <a:pPr marL="364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Verdana"/>
            </a:endParaRPr>
          </a:p>
          <a:p>
            <a:pPr marL="364680" indent="-364680">
              <a:spcBef>
                <a:spcPts val="700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Tells us overall how much prices are changing for the average consumer</a:t>
            </a:r>
            <a:endParaRPr b="0" lang="en-US" sz="2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E9AD1-C99F-4310-AA13-F25CF86D443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Curlz MT"/>
              </a:rPr>
              <a:t>3 step Process</a:t>
            </a: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6720" indent="-3967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1.  Set the “MARKET BASKET”</a:t>
            </a:r>
            <a:endParaRPr b="0" lang="en-US" sz="2800" spc="-1" strike="noStrike">
              <a:solidFill>
                <a:srgbClr val="ffff00"/>
              </a:solidFill>
              <a:latin typeface="Verdana"/>
            </a:endParaRPr>
          </a:p>
          <a:p>
            <a:pPr marL="396720" indent="-3967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2.  Find the prices</a:t>
            </a:r>
            <a:endParaRPr b="0" lang="en-US" sz="2800" spc="-1" strike="noStrike">
              <a:solidFill>
                <a:srgbClr val="ffff00"/>
              </a:solidFill>
              <a:latin typeface="Verdana"/>
            </a:endParaRPr>
          </a:p>
          <a:p>
            <a:pPr marL="396720" indent="-3967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3.  Compute cost for basket</a:t>
            </a:r>
            <a:endParaRPr b="0" lang="en-US" sz="2800" spc="-1" strike="noStrike">
              <a:solidFill>
                <a:srgbClr val="ffff00"/>
              </a:solidFill>
              <a:latin typeface="Verdana"/>
            </a:endParaRPr>
          </a:p>
          <a:p>
            <a:pPr marL="396720" indent="-3967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4.  Set a base year</a:t>
            </a:r>
            <a:endParaRPr b="0" lang="en-US" sz="2800" spc="-1" strike="noStrike">
              <a:solidFill>
                <a:srgbClr val="ffff00"/>
              </a:solidFill>
              <a:latin typeface="Verdana"/>
            </a:endParaRPr>
          </a:p>
          <a:p>
            <a:pPr lvl="2" marL="1316160" indent="-33984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Analyze inflation over that period</a:t>
            </a:r>
            <a:endParaRPr b="0" lang="en-US" sz="2000" spc="-1" strike="noStrike">
              <a:solidFill>
                <a:srgbClr val="ffff00"/>
              </a:solidFill>
              <a:latin typeface="Verdana"/>
            </a:endParaRPr>
          </a:p>
          <a:p>
            <a:pPr marL="396720" indent="-3967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5.  Calculate CPI</a:t>
            </a:r>
            <a:endParaRPr b="0" lang="en-US" sz="2800" spc="-1" strike="noStrike">
              <a:solidFill>
                <a:srgbClr val="ffff00"/>
              </a:solidFill>
              <a:latin typeface="Verdana"/>
            </a:endParaRPr>
          </a:p>
          <a:p>
            <a:pPr marL="396720" indent="-3967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Equation?</a:t>
            </a:r>
            <a:endParaRPr b="0" lang="en-US" sz="2800" spc="-1" strike="noStrike">
              <a:solidFill>
                <a:srgbClr val="ffff00"/>
              </a:solidFill>
              <a:latin typeface="Verdana"/>
            </a:endParaRPr>
          </a:p>
          <a:p>
            <a:pPr marL="396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DE8A3-5402-424C-96EE-397A1F9BF35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Curlz MT"/>
              </a:rPr>
              <a:t>Others care too</a:t>
            </a: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6720" indent="-396720">
              <a:spcBef>
                <a:spcPts val="799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It’s not the only one…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marL="396720" indent="-396720">
              <a:spcBef>
                <a:spcPts val="799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It is the most commonly used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marL="396720" indent="-396720">
              <a:spcBef>
                <a:spcPts val="799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PPI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marL="396720" indent="-396720">
              <a:spcBef>
                <a:spcPts val="799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Whole purpose is to track prices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0DFA4-64FC-4129-98CC-3E8A8DAE2D2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2T01:56:34Z</dcterms:created>
  <dc:creator>Lewisburg Area School District</dc:creator>
  <dc:description/>
  <dc:language>en-US</dc:language>
  <cp:lastModifiedBy>Lewisburg Area School District</cp:lastModifiedBy>
  <dcterms:modified xsi:type="dcterms:W3CDTF">2010-01-21T14:35:03Z</dcterms:modified>
  <cp:revision>9</cp:revision>
  <dc:subject/>
  <dc:title>Chapter 24:  Measuring the Cost of Living</dc:title>
</cp:coreProperties>
</file>